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6BC-4C26-4CB3-95B1-4E507C82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5C5-8566-42D2-B1AD-72422FA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2FD-4364-48D5-8059-85DA55E5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3D1-7334-4C6B-A98A-E73D956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999-8475-4D06-8B23-F4690607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CCD-13D9-41E0-91F5-E3B664D0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E92E-9104-4A14-9261-3738C98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0A6-AB27-4D03-BD6C-4FDECBA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33F-9906-40C7-8112-ABA1A28B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C694-1DB5-474C-A620-37DFDB2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46A-99D6-44D6-92B2-56CEEF6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D85-19F8-467E-99F2-6E3DF81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B904-4CF1-4991-A170-BAC3C74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BA38-5D73-4044-BE3C-27780B5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BCDE-22BC-4FB7-A7A8-FD98448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AA5-755B-4EAB-BE0D-E29171C2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C05-9DAD-4E15-BA8D-D4899986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924-4E27-4CB2-8722-3240AFD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CCF-7462-4207-9986-8D17B6A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027-86A1-4B3B-AD4B-45E99F95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1C6-BE67-41FC-B64F-296C52F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F11-E6C2-45FB-8332-FBCAD69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EA3-828B-4A3B-9754-AAB5A9E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FA8-A14C-4A60-85FE-01CC5FAC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987-B269-4C95-8BAE-6A7B57E749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D9BF-3D48-4E7F-80C0-DDEED80DCB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cs.etsu-tn.edu/gotterbarn/" TargetMode="External"/><Relationship Id="rId2" Type="http://schemas.openxmlformats.org/officeDocument/2006/relationships/hyperlink" Target="http://www-cs.etsu-tn.edu/gotterbarn/" TargetMode="External"/><Relationship Id="rId3" Type="http://schemas.openxmlformats.org/officeDocument/2006/relationships/hyperlink" Target="http://www-cs.etsu-tn.edu/gotterbarn/" TargetMode="External"/><Relationship Id="rId4" Type="http://schemas.openxmlformats.org/officeDocument/2006/relationships/hyperlink" Target="http://www.ccsr.cse.dmu.ac.uk/staff/Srog/misc/bandt.html" TargetMode="External"/><Relationship Id="rId5" Type="http://schemas.openxmlformats.org/officeDocument/2006/relationships/hyperlink" Target="http://www.ccsr.cse.dmu.ac.uk/staff/Srog/misc/bandt.html" TargetMode="External"/><Relationship Id="rId6" Type="http://schemas.openxmlformats.org/officeDocument/2006/relationships/hyperlink" Target="http://www.ccsr.cse.dmu.ac.uk/staff/Srog/misc/bandt.html" TargetMode="External"/><Relationship Id="rId7" Type="http://schemas.openxmlformats.org/officeDocument/2006/relationships/hyperlink" Target="http://seeri.etsu.edu/default.htm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1880410230/shoppintips/104-7066513-8642368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 Project AuditorTM 4.0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decision support tool using the SoDIS proces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 Project Phases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easibility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ments Analys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Environment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Task Analysis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Stakeholder Analysis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Stakeholder/Task Analysis Section</a:t>
            </a:r>
            <a:r>
              <a:rPr b="0" lang="en-US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496440"/>
            <a:ext cx="8163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    </a:t>
            </a:r>
            <a:r>
              <a:rPr b="0" lang="en-NZ" sz="2400" spc="-1" strike="noStrike">
                <a:solidFill>
                  <a:srgbClr val="003366"/>
                </a:solidFill>
                <a:latin typeface="Verdana"/>
              </a:rPr>
              <a:t>Environment Sec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about the presence of those things that will improve the chances for a successful projec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team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able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keholders 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NZ" sz="2400" spc="-1" strike="noStrike">
                <a:solidFill>
                  <a:srgbClr val="003366"/>
                </a:solidFill>
                <a:latin typeface="Verdana"/>
              </a:rPr>
              <a:t>Task Analysis Sec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llows user to evaluate the tasks in the projec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Deliverable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Agreement among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Risk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</a:t>
            </a:r>
            <a:r>
              <a:rPr b="0" lang="en-NZ" sz="2000" spc="-1" strike="noStrike">
                <a:solidFill>
                  <a:srgbClr val="003366"/>
                </a:solidFill>
                <a:latin typeface="Verdana"/>
              </a:rPr>
              <a:t>Stakeholder Analysis Sec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about items related to the various stakeholders in a projec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The stakeholders in a project need to first be identifie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Is project plan acceptable to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Is project understood by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</a:t>
            </a:r>
            <a:r>
              <a:rPr b="0" lang="en-NZ" sz="1800" spc="-1" strike="noStrike">
                <a:solidFill>
                  <a:srgbClr val="003366"/>
                </a:solidFill>
                <a:latin typeface="Verdana"/>
              </a:rPr>
              <a:t>Stakeholder/Task Analysis Section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questions about the relationship between each task and each stakeholder.</a:t>
            </a: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Does this task have an impact that is acceptable to this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Etc for all tasks, all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purpose of the Analysis form is to help identify every requirement where there is an ethical issue potentially compromised for some stakeholder by the completion of that requirement</a:t>
            </a: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92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 are formed for eac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ment-issue-stakehold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rip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form is designed to help identify every requirement where there is a potential ethical issue compromised for some stakeholder by the completion of that requir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678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is SoDIS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Development Impact Statemen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experts in Computer Et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Don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otterbarn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East Tennessee State University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imon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Rogerson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DeMontfort University in the UK., in conjunction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E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Software Engineering Ethics Research In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ing identified any ri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 concerns/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 reports for discussion/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3. Detailed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s the impact of the project on stakeholders using a Work Breakdown Structure (WBS) eg MS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process to Requirements Analysis but in more det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break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DIS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ftware projects are run on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a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orous stakeholder analysis is a new concept for software engine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S c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avoid software development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produce better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development failures are common and expensive (eg, INSY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ising the risk of failure in software projects can be managed in two w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of the impact of the process on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ject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studied and underst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s on existing engineering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standards and tool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MB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Project, Gantt charts et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methodologies (eg, SDLC, CM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akeholder Impact Analysi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09320" y="3200040"/>
            <a:ext cx="6813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ful softwa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what it is designed to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or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llent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effect on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is a stakeholder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28440" y="3123720"/>
            <a:ext cx="7194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ffected by the proj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its produ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keholder impact analy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identify, evaluate and mitigate risks in the software development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courages the developer to think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roups, 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ed to the project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ey are related to the proposed project and its products or deliver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SoDIS Project Auditor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M 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6859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oftware package that uses SoDIS to facilitate the process of auditing projec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7:49:16Z</dcterms:created>
  <dc:creator>Smith</dc:creator>
  <dc:description/>
  <dc:language>en-US</dc:language>
  <cp:lastModifiedBy>LSMITH</cp:lastModifiedBy>
  <dcterms:modified xsi:type="dcterms:W3CDTF">2006-02-28T23:34:04Z</dcterms:modified>
  <cp:revision>7</cp:revision>
  <dc:subject/>
  <dc:title>SODiS</dc:title>
</cp:coreProperties>
</file>